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9A6-7B6A-4F0B-BA92-50260BDA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531-892D-4AB7-BE04-A0442FE0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7C7-31D8-445B-BD20-88ADFDB0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5B7-14B3-492A-BAF5-5A9CCC78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EBD-42DE-4BF3-8810-4A3582E8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A5A-2F48-4690-8485-584436DD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303-E12A-4F93-BF34-C925973C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4C2-4F1A-494E-81C7-984AEB9B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5A0-BED7-4725-A4C7-88DDD4DE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500-E282-4DED-B900-C31B678A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171-8396-42D9-9F65-5B92537C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14B-CA7C-4BE8-B624-8DA36FB5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8324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C40B-821C-4E72-A957-075B807D156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© 2009 Robert Adun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48324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90C8-53D0-444B-AC67-B1AA5E0E7B9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170000"/>
            <a:ext cx="82771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" name=""/>
          <p:cNvCxnSpPr/>
          <p:nvPr/>
        </p:nvCxnSpPr>
        <p:spPr>
          <a:xfrm>
            <a:off x="4635000" y="3191040"/>
            <a:ext cx="10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" name=""/>
          <p:cNvCxnSpPr/>
          <p:nvPr/>
        </p:nvCxnSpPr>
        <p:spPr>
          <a:xfrm>
            <a:off x="4635000" y="4725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" name=""/>
          <p:cNvCxnSpPr/>
          <p:nvPr/>
        </p:nvCxnSpPr>
        <p:spPr>
          <a:xfrm>
            <a:off x="3108240" y="4065120"/>
            <a:ext cx="22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" name=""/>
          <p:cNvCxnSpPr/>
          <p:nvPr/>
        </p:nvCxnSpPr>
        <p:spPr>
          <a:xfrm flipH="1">
            <a:off x="5938560" y="4065120"/>
            <a:ext cx="22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" name=""/>
          <p:cNvCxnSpPr/>
          <p:nvPr/>
        </p:nvCxnSpPr>
        <p:spPr>
          <a:xfrm>
            <a:off x="3108240" y="5601960"/>
            <a:ext cx="22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" name=""/>
          <p:cNvCxnSpPr/>
          <p:nvPr/>
        </p:nvCxnSpPr>
        <p:spPr>
          <a:xfrm>
            <a:off x="5938920" y="5601960"/>
            <a:ext cx="22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" name=""/>
          <p:cNvSpPr/>
          <p:nvPr/>
        </p:nvSpPr>
        <p:spPr>
          <a:xfrm>
            <a:off x="3332160" y="4940280"/>
            <a:ext cx="2606760" cy="13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332160" y="3403440"/>
            <a:ext cx="26067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332160" y="1868400"/>
            <a:ext cx="26067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03280" y="4940280"/>
            <a:ext cx="2604960" cy="13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03280" y="3403440"/>
            <a:ext cx="26049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03280" y="1868400"/>
            <a:ext cx="26049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6164280" y="4940280"/>
            <a:ext cx="2604960" cy="13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6164280" y="3403440"/>
            <a:ext cx="26049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6164280" y="1868400"/>
            <a:ext cx="2604960" cy="13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" name=""/>
          <p:cNvCxnSpPr/>
          <p:nvPr/>
        </p:nvCxnSpPr>
        <p:spPr>
          <a:xfrm>
            <a:off x="3108240" y="2528640"/>
            <a:ext cx="224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" name=""/>
          <p:cNvCxnSpPr/>
          <p:nvPr/>
        </p:nvCxnSpPr>
        <p:spPr>
          <a:xfrm>
            <a:off x="5938920" y="2528640"/>
            <a:ext cx="22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" name=""/>
          <p:cNvCxnSpPr/>
          <p:nvPr/>
        </p:nvCxnSpPr>
        <p:spPr>
          <a:xfrm>
            <a:off x="1806120" y="3191040"/>
            <a:ext cx="10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" name=""/>
          <p:cNvCxnSpPr/>
          <p:nvPr/>
        </p:nvCxnSpPr>
        <p:spPr>
          <a:xfrm>
            <a:off x="1806120" y="4725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" name=""/>
          <p:cNvCxnSpPr/>
          <p:nvPr/>
        </p:nvCxnSpPr>
        <p:spPr>
          <a:xfrm>
            <a:off x="7467120" y="3191040"/>
            <a:ext cx="10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" name=""/>
          <p:cNvCxnSpPr/>
          <p:nvPr/>
        </p:nvCxnSpPr>
        <p:spPr>
          <a:xfrm>
            <a:off x="7467120" y="4725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" name=""/>
          <p:cNvSpPr/>
          <p:nvPr/>
        </p:nvSpPr>
        <p:spPr>
          <a:xfrm>
            <a:off x="503280" y="503280"/>
            <a:ext cx="827712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berz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2966760" y="340344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2967840" y="3708360"/>
            <a:ext cx="155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2966760" y="494028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2966400" y="524520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2966760" y="186840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2966040" y="217332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137880" y="340344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138960" y="3708360"/>
            <a:ext cx="155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137880" y="494028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137520" y="524520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137880" y="186840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137160" y="217332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5798880" y="340344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799960" y="3708360"/>
            <a:ext cx="155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798880" y="494028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798520" y="524520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8880" y="1868400"/>
            <a:ext cx="16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itpun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8160" y="217332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syst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178520" y="3381480"/>
            <a:ext cx="131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ährend des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chiess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9760" y="3965400"/>
            <a:ext cx="212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zess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„Tontaubenschiesse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343-D25B-471A-847E-1FDFE19F21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3488B-B0A2-472E-9E7F-FB2F6D870A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3DA-5BEF-406F-AB86-78980EF397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59BA7-BF3D-4BE7-9450-E5E4F00FD9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10:57:36Z</dcterms:created>
  <dc:creator>Dr. Robert Adunka</dc:creator>
  <dc:description/>
  <dc:language>en-US</dc:language>
  <cp:lastModifiedBy>road</cp:lastModifiedBy>
  <cp:lastPrinted>2001-12-10T12:36:55Z</cp:lastPrinted>
  <dcterms:modified xsi:type="dcterms:W3CDTF">2010-04-22T20:31:52Z</dcterms:modified>
  <cp:revision>377</cp:revision>
  <dc:subject/>
  <dc:title>Arbeitsblätter zum problemorientierten Neun-Felder-Denken</dc:title>
</cp:coreProperties>
</file>