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BD0-9363-4CD7-ADD7-35532BDF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DEC-985C-459F-8F3F-8BFB705B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10E-2727-4BEE-81C4-AABBC86F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993-E61D-428B-AD29-D4673901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01B-49A6-4B2D-8A93-E315D670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F4B-2C2B-4FB9-B03C-0F8641FE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9C7-43C2-4708-B4D7-9544B784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6E1-E248-4F1E-A2D1-D55DCBA9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2C8-2BD8-4790-B8AA-479C1976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20F-DEAC-4E35-8DFF-98455C5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210-F1BD-49C1-A192-5B26D162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681-0AAB-4336-89D5-A37C205A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8324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770A-E76E-4F95-959C-A1800B817DF7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© 2009 Robert Adun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483240"/>
            <a:ext cx="213372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15ED-928B-4640-94BE-677F26A5CD6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51320" y="22320"/>
            <a:ext cx="120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kun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hr: 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26040" y="22320"/>
            <a:ext cx="1253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genw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hr: 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22200" y="22320"/>
            <a:ext cx="1660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gang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hr: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44360" y="738360"/>
            <a:ext cx="8729280" cy="5591880"/>
            <a:chOff x="144360" y="738360"/>
            <a:chExt cx="8729280" cy="5591880"/>
          </a:xfrm>
        </p:grpSpPr>
        <p:sp>
          <p:nvSpPr>
            <p:cNvPr id="7" name=""/>
            <p:cNvSpPr/>
            <p:nvPr/>
          </p:nvSpPr>
          <p:spPr>
            <a:xfrm>
              <a:off x="3628440" y="4776480"/>
              <a:ext cx="244584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9080" y="4776480"/>
              <a:ext cx="244548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" name=""/>
            <p:cNvCxnSpPr/>
            <p:nvPr/>
          </p:nvCxnSpPr>
          <p:spPr>
            <a:xfrm>
              <a:off x="4851720" y="2291760"/>
              <a:ext cx="1080" cy="46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" name=""/>
            <p:cNvCxnSpPr/>
            <p:nvPr/>
          </p:nvCxnSpPr>
          <p:spPr>
            <a:xfrm>
              <a:off x="4851720" y="4309200"/>
              <a:ext cx="1080" cy="46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" name=""/>
            <p:cNvSpPr/>
            <p:nvPr/>
          </p:nvSpPr>
          <p:spPr>
            <a:xfrm>
              <a:off x="3628440" y="2753280"/>
              <a:ext cx="2445840" cy="155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9080" y="2753280"/>
              <a:ext cx="2445480" cy="155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427800" y="2753280"/>
              <a:ext cx="2445840" cy="155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" name=""/>
            <p:cNvCxnSpPr/>
            <p:nvPr/>
          </p:nvCxnSpPr>
          <p:spPr>
            <a:xfrm>
              <a:off x="3274560" y="3529800"/>
              <a:ext cx="353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" name=""/>
            <p:cNvCxnSpPr/>
            <p:nvPr/>
          </p:nvCxnSpPr>
          <p:spPr>
            <a:xfrm flipH="1">
              <a:off x="6074280" y="3532320"/>
              <a:ext cx="35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" name=""/>
            <p:cNvSpPr/>
            <p:nvPr/>
          </p:nvSpPr>
          <p:spPr>
            <a:xfrm>
              <a:off x="6427800" y="4776480"/>
              <a:ext cx="244584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" name=""/>
            <p:cNvCxnSpPr/>
            <p:nvPr/>
          </p:nvCxnSpPr>
          <p:spPr>
            <a:xfrm>
              <a:off x="3274560" y="5555520"/>
              <a:ext cx="353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" name=""/>
            <p:cNvCxnSpPr/>
            <p:nvPr/>
          </p:nvCxnSpPr>
          <p:spPr>
            <a:xfrm>
              <a:off x="6074640" y="5553360"/>
              <a:ext cx="35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" name=""/>
            <p:cNvSpPr/>
            <p:nvPr/>
          </p:nvSpPr>
          <p:spPr>
            <a:xfrm>
              <a:off x="3628440" y="738360"/>
              <a:ext cx="244584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29080" y="738360"/>
              <a:ext cx="244548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427800" y="738360"/>
              <a:ext cx="2445840" cy="15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" name=""/>
            <p:cNvCxnSpPr/>
            <p:nvPr/>
          </p:nvCxnSpPr>
          <p:spPr>
            <a:xfrm>
              <a:off x="3274560" y="1517040"/>
              <a:ext cx="353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" name=""/>
            <p:cNvCxnSpPr/>
            <p:nvPr/>
          </p:nvCxnSpPr>
          <p:spPr>
            <a:xfrm>
              <a:off x="6074640" y="1514520"/>
              <a:ext cx="35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" name=""/>
            <p:cNvSpPr/>
            <p:nvPr/>
          </p:nvSpPr>
          <p:spPr>
            <a:xfrm rot="16200000">
              <a:off x="-256680" y="5253120"/>
              <a:ext cx="1290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Untersyste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-159840" y="3456000"/>
              <a:ext cx="88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6200000">
              <a:off x="-363960" y="1309320"/>
              <a:ext cx="1505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er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Obersyste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" name=""/>
            <p:cNvCxnSpPr/>
            <p:nvPr/>
          </p:nvCxnSpPr>
          <p:spPr>
            <a:xfrm>
              <a:off x="2052360" y="2291760"/>
              <a:ext cx="1080" cy="46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" name=""/>
            <p:cNvCxnSpPr/>
            <p:nvPr/>
          </p:nvCxnSpPr>
          <p:spPr>
            <a:xfrm>
              <a:off x="2052360" y="4309200"/>
              <a:ext cx="1080" cy="46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" name=""/>
            <p:cNvCxnSpPr/>
            <p:nvPr/>
          </p:nvCxnSpPr>
          <p:spPr>
            <a:xfrm>
              <a:off x="7651080" y="2291760"/>
              <a:ext cx="1080" cy="46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" name=""/>
            <p:cNvCxnSpPr/>
            <p:nvPr/>
          </p:nvCxnSpPr>
          <p:spPr>
            <a:xfrm>
              <a:off x="7651080" y="4309200"/>
              <a:ext cx="1080" cy="46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1" name=""/>
          <p:cNvSpPr/>
          <p:nvPr/>
        </p:nvSpPr>
        <p:spPr>
          <a:xfrm flipH="1">
            <a:off x="2891880" y="249120"/>
            <a:ext cx="975960" cy="976320"/>
          </a:xfrm>
          <a:custGeom>
            <a:avLst/>
            <a:gdLst>
              <a:gd name="textAreaLeft" fmla="*/ -360 w 975960"/>
              <a:gd name="textAreaRight" fmla="*/ 975960 w 9759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5821200" y="2491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2652120" y="228600"/>
            <a:ext cx="12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5569920" y="228600"/>
            <a:ext cx="12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828720" y="738360"/>
            <a:ext cx="244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828720" y="800280"/>
            <a:ext cx="2446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3235320" y="2774880"/>
            <a:ext cx="26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sches Syst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21971" t="18568" r="19016" b="69039"/>
          <a:stretch/>
        </p:blipFill>
        <p:spPr>
          <a:xfrm>
            <a:off x="3668760" y="3336840"/>
            <a:ext cx="2362320" cy="37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32320" y="303228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ugelschre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BD3-698B-4D08-9BB2-4411CC9990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10ECC-4719-4898-987C-031DC76F41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207-4A6B-4C88-9484-F096F1C938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8783A-7619-4485-A996-6BB9410401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10:57:36Z</dcterms:created>
  <dc:creator>Dr. Robert Adunka</dc:creator>
  <dc:description/>
  <dc:language>en-US</dc:language>
  <cp:lastModifiedBy>Z001UX4B</cp:lastModifiedBy>
  <cp:lastPrinted>2001-12-10T12:36:55Z</cp:lastPrinted>
  <dcterms:modified xsi:type="dcterms:W3CDTF">2012-01-04T11:01:50Z</dcterms:modified>
  <cp:revision>375</cp:revision>
  <dc:subject/>
  <dc:title>Arbeitsblätter zum Neun-Felder-Denken</dc:title>
</cp:coreProperties>
</file>